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E8BDF-2CC4-470D-ABE5-7254979DC7B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should take 2 to 3 ho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809D3-7D76-4FB8-9454-F115408A053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read the Easier English versions of the interview, then read the originals and note the differences in vocabulary and sentence struc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221C5-AC9B-4E7F-B4C5-14F9949B984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imings: lead-in/vocabulary: 15 - 30 mins; speaking: 15 - 30 mins; reading: 15 - 30 mins; grammar focus and practice: 15 - 30 mins; writing: 30 – 60 m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970D0-D37B-422F-BA35-B1D2B925DA9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f learners don’t know words, feed in: a) demonstration, strike, boycott, march et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) support, join in, disperse crowds, water canon, rubber bullets, sack, arrest, imprison et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FDFAE-DB2B-4BAA-8C99-C5C5A897424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point out countries where they heard about protests and discuss why people were protes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A34C4-7A7E-4E86-80A1-FEA608C7A62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ifferent learners can read selected articles in pairs and discuss, or all learners can skim-read all 6 articles, then discuss: who? how? why? for e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45698-24FC-472B-AD03-756D9FC87C3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uide learners to discuss the form/structure (and the meaning/function and phonology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00D85-86A9-4C1C-B187-2791EC776D7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eck learners understand the meaning/function, form/structure and phonology (utterance stress – usually on past participles; contractions; pronunciation of “ed” ending of regular past participles etc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0D32B-49DD-41C8-946C-6D0EDF2A410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write their 3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conditional sentences on the board or on flip-chart paper, and then correct any errors in each other’s w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7668B-8D59-41EF-B3DD-CACC4A79336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rticles can be blu-tacked to the wall afterwards for all learners to read and decide: which would be most interesting for people to rea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roups can then correct any errors in the arti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69C09-3569-4C2F-A51E-D48FBF5FE3C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A573-2448-4307-859D-584DA9DA5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ABE5-B082-41B0-B6C8-76865108F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D861-AA99-4A28-8827-1258EB1CF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41EE-C1D8-4237-8969-FBF1FB646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EA24-D01F-4BC6-93B1-5E13E784A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B383-5D46-4477-8242-33F40EE91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C0E3-35BC-48B3-907D-A65DBB94B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F9B7-0DA2-4027-91A9-A280E9358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5768-045B-4647-8C31-61B4FF492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32BE-C623-40FF-A4AD-0C1CA4E7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49D3-8DC8-4C56-88A3-E38EB91D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E375-240A-47DD-9ABC-7BD2B90C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9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6C2CC-5C10-4DB5-BFCB-6DB1AF38D1B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Photo_story_:_Turkey_has_lost_its_fear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Photo_story_:_Turkey_has_lost_its_fear" TargetMode="External"/><Relationship Id="rId2" Type="http://schemas.openxmlformats.org/officeDocument/2006/relationships/hyperlink" Target="http://eewiki.newint.org/index.php/Social_media_in_Turkey" TargetMode="External"/><Relationship Id="rId3" Type="http://schemas.openxmlformats.org/officeDocument/2006/relationships/hyperlink" Target="http://eewiki.newint.org/index.php/Rio_communities_come_together_in_protest" TargetMode="External"/><Relationship Id="rId4" Type="http://schemas.openxmlformats.org/officeDocument/2006/relationships/hyperlink" Target="http://eewiki.newint.org/index.php/Egypt:_what_happened_to_democracy,_freedom,_stability%3F" TargetMode="External"/><Relationship Id="rId5" Type="http://schemas.openxmlformats.org/officeDocument/2006/relationships/hyperlink" Target="http://eewiki.newint.org/index.php/Indonesians_won%27t_stop_fighting" TargetMode="External"/><Relationship Id="rId6" Type="http://schemas.openxmlformats.org/officeDocument/2006/relationships/hyperlink" Target="http://eewiki.newint.org/index.php/G8_hunger_summit:_protest_and_praise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alibri"/>
              </a:rPr>
              <a:t>Protest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New Internationalist Easier Englis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Intermediate Ready Les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938320" y="476280"/>
            <a:ext cx="6012000" cy="1511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6227640" y="5060880"/>
            <a:ext cx="2730600" cy="1629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3"/>
          <a:stretch/>
        </p:blipFill>
        <p:spPr>
          <a:xfrm>
            <a:off x="101520" y="5122800"/>
            <a:ext cx="2598840" cy="1731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"/>
          <p:cNvPicPr/>
          <p:nvPr/>
        </p:nvPicPr>
        <p:blipFill>
          <a:blip r:embed="rId4"/>
          <a:stretch/>
        </p:blipFill>
        <p:spPr>
          <a:xfrm>
            <a:off x="135000" y="1160640"/>
            <a:ext cx="2265480" cy="1511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"/>
          <p:cNvPicPr/>
          <p:nvPr/>
        </p:nvPicPr>
        <p:blipFill>
          <a:blip r:embed="rId5"/>
          <a:stretch/>
        </p:blipFill>
        <p:spPr>
          <a:xfrm>
            <a:off x="6948360" y="2274840"/>
            <a:ext cx="171936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27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Homework: read the Easier English texts again – then click on the original at the end of each article and read that: compare vocabulary and grammar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23640" y="3357720"/>
            <a:ext cx="85690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urkey: </a:t>
            </a:r>
            <a:r>
              <a:rPr b="0" lang="en-GB" sz="1500" spc="-1" strike="noStrike" u="sng">
                <a:solidFill>
                  <a:srgbClr val="3399ff"/>
                </a:solidFill>
                <a:uFillTx/>
                <a:latin typeface="Calibri"/>
                <a:hlinkClick r:id="rId1"/>
              </a:rPr>
              <a:t>http://eewiki.newint.org/index.php/Photo_story_:_Turkey_has_lost_its_fea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http://eewiki.newint.org/index.php/Social_media_in_Turke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razil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http://eewiki.newint.org/index.php/Rio_communities_come_together_in_prote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Egy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http://eewiki.newint.org/index.php/Egypt:_what_happened_to_democracy,_freedom,_stability%3F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donesia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http://eewiki.newint.org/index.php/Indonesians_won%27t_stop_fight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</a:rPr>
              <a:t>UK: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http://eewiki.newint.org/index.php/G8_hunger_summit:_protest_and_prai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2"/>
          <a:stretch/>
        </p:blipFill>
        <p:spPr>
          <a:xfrm>
            <a:off x="7596360" y="3645000"/>
            <a:ext cx="11476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esson pla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907560"/>
            <a:ext cx="84358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Vocabulary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Speaking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Reading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Gramma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Writing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Homework / extensio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826920" y="1971720"/>
            <a:ext cx="212724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9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, we need </a:t>
            </a: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ords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– in groups, list as many words/phrases as possible for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50560" y="3573000"/>
            <a:ext cx="424476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)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How people can prot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g. hunger str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47960" y="4292280"/>
            <a:ext cx="424476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)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How other people can respond to prote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g. force-fee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6246720" y="2205000"/>
            <a:ext cx="2549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rotests in the last year: where/wh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781200" y="1503360"/>
            <a:ext cx="748980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ad/think: who? how? wh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125000"/>
            <a:ext cx="8362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urkey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GB" sz="1800" spc="-1" strike="noStrike" u="sng">
                <a:solidFill>
                  <a:srgbClr val="3399ff"/>
                </a:solidFill>
                <a:uFillTx/>
                <a:latin typeface="Calibri"/>
                <a:hlinkClick r:id="rId1"/>
              </a:rPr>
              <a:t>http://eewiki.newint.org/index.php/Photo_story_:_Turkey_has_lost_its_f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99ff"/>
                </a:solidFill>
                <a:uFillTx/>
                <a:latin typeface="Calibri"/>
                <a:hlinkClick r:id="rId2"/>
              </a:rPr>
              <a:t>http://eewiki.newint.org/index.php/Social_media_in_Turke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Brazil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99ff"/>
                </a:solidFill>
                <a:uFillTx/>
                <a:latin typeface="Calibri"/>
                <a:hlinkClick r:id="rId3"/>
              </a:rPr>
              <a:t>http://eewiki.newint.org/index.php/Rio_communities_come_together_in_prot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Egypt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99ff"/>
                </a:solidFill>
                <a:uFillTx/>
                <a:latin typeface="Calibri"/>
                <a:hlinkClick r:id="rId4"/>
              </a:rPr>
              <a:t>http://eewiki.newint.org/index.php/Egypt:_what_happened_to_democracy,_freedom,_stability%3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Indonesia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99ff"/>
                </a:solidFill>
                <a:uFillTx/>
                <a:latin typeface="Calibri"/>
                <a:hlinkClick r:id="rId5"/>
              </a:rPr>
              <a:t>http://eewiki.newint.org/index.php/Indonesians_won%27t_stop_figh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UK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99ff"/>
                </a:solidFill>
                <a:uFillTx/>
                <a:latin typeface="Calibri"/>
                <a:hlinkClick r:id="rId6"/>
              </a:rPr>
              <a:t>http://eewiki.newint.org/index.php/G8_hunger_summit:_protest_and_prai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ow think about other option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50920" y="1341360"/>
            <a:ext cx="86421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f they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hadn’t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protest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ed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, no-one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would have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know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f they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hadn’t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gone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to the streets, nothing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would have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hange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f they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hadn’t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done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anything, the government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would have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tinue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alibri"/>
              </a:rPr>
              <a:t>What’s the gramma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GB" sz="44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conditional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6840" y="1268280"/>
            <a:ext cx="8147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f + past perfect (had/n’t + past participle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alibri"/>
              </a:rPr>
              <a:t>If they hadn’t protes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+ past conditional (would/n’t have + past particip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alibri"/>
              </a:rPr>
              <a:t>no-one would have known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Is this past, present or future? P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Did they protest? Y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Did other people know because of the protests? Y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26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ow discuss all the protests and make more 3</a:t>
            </a:r>
            <a:r>
              <a:rPr b="0" lang="en-GB" sz="44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conditional sentences about what happened or what didn’t happe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8360" y="3068640"/>
            <a:ext cx="820728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urke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razi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ree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donesi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UK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ther protests you know abou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5076720" y="3357720"/>
            <a:ext cx="296568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ri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95280" y="1268280"/>
            <a:ext cx="8291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small groups, write an article for a college / school newspap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GB" sz="5400" spc="-1" strike="noStrike">
                <a:solidFill>
                  <a:srgbClr val="000000"/>
                </a:solidFill>
                <a:latin typeface="Calibri"/>
              </a:rPr>
              <a:t>Protests around the world”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e about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different types of prote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give examples from the articles you rea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include at least 2 3</a:t>
            </a:r>
            <a:r>
              <a:rPr b="1" lang="en-GB" sz="36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 conditiona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4284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8T09:06:36Z</dcterms:created>
  <dc:creator>Linda Ruas</dc:creator>
  <dc:description/>
  <dc:language>en-US</dc:language>
  <cp:lastModifiedBy>Linda Ruas</cp:lastModifiedBy>
  <dcterms:modified xsi:type="dcterms:W3CDTF">2013-07-25T09:10:26Z</dcterms:modified>
  <cp:revision>37</cp:revision>
  <dc:subject/>
  <dc:title>People who change the world</dc:title>
</cp:coreProperties>
</file>